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05807"/>
        <c:axId val="34989217"/>
      </c:barChart>
      <c:catAx>
        <c:axId val="13805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89217"/>
        <c:crosses val="autoZero"/>
        <c:auto val="1"/>
        <c:lblAlgn val="ctr"/>
        <c:lblOffset val="100"/>
        <c:noMultiLvlLbl val="0"/>
      </c:catAx>
      <c:valAx>
        <c:axId val="34989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05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0E1-E66C-4C12-B737-86180A39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B75-5C44-4B41-A352-E21D4CEA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D31-17B4-49EF-B08C-434E6882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7BB-1DFF-49F8-B941-245A1E70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BDE-B54E-4222-BB4E-6AC32D87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4C1-98F5-4A23-B679-1A122074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02C-1361-4289-82BA-B41ABD10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6EB-AD27-4204-88E5-17F998AE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45A-64D5-48FE-8487-0D16EA51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4EEB-72A4-4993-B728-F68E17F4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83A-27DC-4E67-B8DA-DFFB5129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601-1AA8-486D-947F-56756930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6B288-33B1-4210-B66F-D8893160FF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