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25558"/>
        <c:axId val="49993502"/>
      </c:barChart>
      <c:catAx>
        <c:axId val="75725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93502"/>
        <c:crosses val="autoZero"/>
        <c:auto val="1"/>
        <c:lblAlgn val="ctr"/>
        <c:lblOffset val="100"/>
        <c:noMultiLvlLbl val="0"/>
      </c:catAx>
      <c:valAx>
        <c:axId val="49993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25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A58-D881-47D2-8AA1-9877395B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486-4E7D-40B4-BF30-4A0324E6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CCA-1F3B-427F-B0AE-510BF124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9D0-C030-4EC8-8378-18E4F136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05E-5113-4274-8AE3-3D924761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DD5-913C-40D1-AD33-B6885121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752-1902-4798-8685-C5659620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97A-5C89-43E8-9A36-D6E68EB9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B48-F20A-46FF-8AD1-50440399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1D9-6121-4292-B186-4107C51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93C-D594-4294-B6ED-A1FC2113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EF0-2BC7-42DD-AC2D-9D7A976B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86BA1-6AC5-4AF7-9B86-6EEDD4EF23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