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99418"/>
        <c:axId val="8253207"/>
      </c:barChart>
      <c:catAx>
        <c:axId val="80099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3207"/>
        <c:crosses val="autoZero"/>
        <c:auto val="1"/>
        <c:lblAlgn val="ctr"/>
        <c:lblOffset val="100"/>
        <c:noMultiLvlLbl val="0"/>
      </c:catAx>
      <c:valAx>
        <c:axId val="8253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9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1D6-F45C-4BEF-B1E6-21D2B304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3C3-29C9-4635-8AE6-723677E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814-6465-4C4E-884A-097241D1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A5B-818F-4B55-B20E-FDA44F94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9AC-137F-41F0-A2DC-97AAC71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CC1-2BAE-4EB3-9FCE-E5EDBC2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B66-ABF5-483F-AFCF-C4EA1BB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090-E99C-456C-9E76-07F24B6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1BB-725B-445A-8C39-C85C8C7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6D1-1C75-4EB2-8317-E111B78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E03-691C-4C89-B332-6D5D578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1B5-4C30-4177-A1BF-CE48C66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9969E-33AD-4E17-8CFB-1BE15741CF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