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86869"/>
        <c:axId val="17479027"/>
      </c:barChart>
      <c:catAx>
        <c:axId val="81086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79027"/>
        <c:crosses val="autoZero"/>
        <c:auto val="1"/>
        <c:lblAlgn val="ctr"/>
        <c:lblOffset val="100"/>
        <c:noMultiLvlLbl val="0"/>
      </c:catAx>
      <c:valAx>
        <c:axId val="17479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86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8B7-B78C-4624-ADC6-05F7D119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A46-D409-45AB-A8E1-8F40D25D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B40-8338-4749-ACCE-D579F751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9D7-3051-40CA-A767-65C98DD0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44F-B7B4-489D-B44A-FF181B7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C16-95AF-43EA-8877-B91F25C9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FEA-FD5F-4088-BFB8-57511689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E51-D89D-4C5A-A155-98EF0312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A08-80BF-4E6D-8370-834A3B74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C05-6104-4D1D-BCF6-659C7DF4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5DF-C337-4BF9-AB68-408F0B00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67B-B493-48FE-ADB3-6F20A62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5BD7-470A-4663-9CCA-410AC1A7B7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