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9855"/>
        <c:axId val="16425624"/>
      </c:barChart>
      <c:catAx>
        <c:axId val="7039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5624"/>
        <c:crosses val="autoZero"/>
        <c:auto val="1"/>
        <c:lblAlgn val="ctr"/>
        <c:lblOffset val="100"/>
        <c:noMultiLvlLbl val="0"/>
      </c:catAx>
      <c:valAx>
        <c:axId val="16425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9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857-DC15-4A78-9A51-71340F1E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88E-4FDA-4B7E-B476-ECD91C65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7E6-9146-42CA-A832-40E752CA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4B8-B068-4EFA-B4C5-4DAFABF3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54A-1509-4DE7-A504-63AC82B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000-4C5A-4765-899A-F82B9F2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48F-4181-4EC0-9591-CCB7020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F06-575B-4B65-AB80-A07B5A5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146-A7D5-4C05-91B4-DCF0C85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41E-18EE-429B-AE75-9EAC1E8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705-BDE6-4F75-AB98-B945CE6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F53-E5BA-4911-8C01-BD825AA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ED0CF-B8C8-4422-87D7-7034D36D0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