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63775"/>
        <c:axId val="984319"/>
      </c:barChart>
      <c:catAx>
        <c:axId val="82163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319"/>
        <c:crosses val="autoZero"/>
        <c:auto val="1"/>
        <c:lblAlgn val="ctr"/>
        <c:lblOffset val="100"/>
        <c:noMultiLvlLbl val="0"/>
      </c:catAx>
      <c:valAx>
        <c:axId val="984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63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AE3-2BC3-4AD9-9A56-7E9B2B23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9DD-EC00-48AC-8540-4D135523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D098-D4D2-4062-A235-1931FB0D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C9C-7E8F-4E5D-92C7-10499E23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587A-B1C9-44A3-B2B1-0F0CB80E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4DD7-96C3-4214-A1DC-1A8F7E92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2FDF-BAB6-458F-9641-7E93C269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8B4-9F47-4CA4-B3A3-C9BB11BA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F302-D25E-41FB-AA75-C6CC49A2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98F0-9FD5-46AD-A4B5-CE767F94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93D-F294-4811-8D1B-E9FF0FDA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D53C-1DFB-485C-9641-32FF3A61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F7D68-D52B-438D-BEC9-53287D323C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