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76522"/>
        <c:axId val="8712969"/>
      </c:barChart>
      <c:catAx>
        <c:axId val="92076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2969"/>
        <c:crosses val="autoZero"/>
        <c:auto val="1"/>
        <c:lblAlgn val="ctr"/>
        <c:lblOffset val="100"/>
        <c:noMultiLvlLbl val="0"/>
      </c:catAx>
      <c:valAx>
        <c:axId val="8712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6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272-4950-487E-96C3-984F65FE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237-EE7A-48E6-9B9D-0A17A52F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3AC-B74C-450D-9BC2-F7FB6FCA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5B9-EC7C-4EF2-9787-6353AFF5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4E0-09DC-4C03-A8B3-051620C8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17B-AB8A-4B99-AC7A-494379EA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0E7-DC54-4423-83B5-FA2FC84B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04A-B55C-48A0-90EA-385E7A53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0C1-DEF3-46BB-800C-429C006C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3AA-E718-4FB8-B166-680856D5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72C-0EBA-44E3-8D20-2E97549C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551-E6E9-46E0-927B-FB601CB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9621F-0E57-4A8D-BB8E-E2E7DAD2CA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