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30459"/>
        <c:axId val="23368832"/>
      </c:barChart>
      <c:catAx>
        <c:axId val="24630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68832"/>
        <c:crosses val="autoZero"/>
        <c:auto val="1"/>
        <c:lblAlgn val="ctr"/>
        <c:lblOffset val="100"/>
        <c:noMultiLvlLbl val="0"/>
      </c:catAx>
      <c:valAx>
        <c:axId val="23368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0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B9C-C93E-427F-A6B6-1A275A4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5B6-D5A0-4617-8148-E956381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B5D-DB62-4C95-AEA0-87563A39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1F3-EC59-43F8-8E76-8C86F31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C96-3731-42CC-8D46-54CD246F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78C-095C-4D7A-B211-39A69CF1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65A-4DD8-4DD2-88B5-D564120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FDA-C188-4D1A-8732-D45C5E6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5D2-B3A0-4218-906D-C55B595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06C-836C-437F-8AE6-3BD483D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A7D-153E-4456-977E-ACE04F2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21A-86A2-4295-8CEC-E7C2F38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0C6DB-87C3-42DF-B158-A0C771FA5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