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1800"/>
        <c:axId val="67048519"/>
      </c:barChart>
      <c:catAx>
        <c:axId val="6311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8519"/>
        <c:crosses val="autoZero"/>
        <c:auto val="1"/>
        <c:lblAlgn val="ctr"/>
        <c:lblOffset val="100"/>
        <c:noMultiLvlLbl val="0"/>
      </c:catAx>
      <c:valAx>
        <c:axId val="67048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1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F5E-E81E-44C8-A746-8A8103F6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059-D2F4-4D87-BF54-63E282E7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40C-F685-4448-B801-7616878C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02C-67BB-4CB4-BC97-D7138CE2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1F4-55B6-4203-A3E6-44C2CFFB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2EC-29C9-4A3A-AB3D-2E4A4DCC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494-9738-4A7A-BA90-6D4A91F0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3CE-D220-4D8C-B927-8A1B003F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DBF-16AB-4B9D-99CA-34AA7132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2A8-B5C8-4671-888A-F8084655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A93-4B7B-4A6B-8884-6702DCDF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4AD-AC5A-4EED-B045-0335A38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EC323-C232-4037-AB79-EC1DC61EFB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