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7990"/>
        <c:axId val="39780279"/>
      </c:barChart>
      <c:catAx>
        <c:axId val="67097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80279"/>
        <c:crosses val="autoZero"/>
        <c:auto val="1"/>
        <c:lblAlgn val="ctr"/>
        <c:lblOffset val="100"/>
        <c:noMultiLvlLbl val="0"/>
      </c:catAx>
      <c:valAx>
        <c:axId val="3978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7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5F7-DAF2-4E5F-9B73-E8DBED17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BF7-1BD1-47BB-A09F-56D85929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AAD-89A1-4016-BDEC-190879E8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B03-110C-4FAD-AC66-C6030670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B64-573E-4EC5-94B9-BBA90BC2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F4B-609D-4FA7-A39C-139610F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2EB-5B54-48FC-801C-F8B6D22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4B0-C87C-489A-AC82-9B10356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3B4-25B8-4F70-86CE-4B4615B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E8B-BBEE-4C1C-AA07-F3475BC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936-7A6C-4D17-9FFD-25569DE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4FA-6A14-4CD3-99EE-E1CDB915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71919-0605-43DF-A78A-5C1462ED48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