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91037"/>
        <c:axId val="83837592"/>
      </c:barChart>
      <c:catAx>
        <c:axId val="96791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37592"/>
        <c:crosses val="autoZero"/>
        <c:auto val="1"/>
        <c:lblAlgn val="ctr"/>
        <c:lblOffset val="100"/>
        <c:noMultiLvlLbl val="0"/>
      </c:catAx>
      <c:valAx>
        <c:axId val="8383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91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064-690C-4D6A-8DC7-EB94EDEF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321-0AB9-41F5-8EE3-7AF95A4E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D1C-5CED-4FB3-A402-2A14B990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19-2769-447A-864D-E98C86F7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943-A3EE-47D2-8812-F73C513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C7A-F7F0-4078-9BDF-00F970F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436-3D3E-42C4-A0FE-5DA9A84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FF4-554D-4D24-963F-95115B75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41B-13A5-42AE-B18F-277074C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300-A197-48C7-A7C2-051078D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057-F68D-4960-B7B5-6058696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43-F6E8-49B9-A1A3-BF5B653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ED3D-18B4-4C0B-8703-8280FB1F44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