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048726"/>
        <c:axId val="50220341"/>
      </c:barChart>
      <c:catAx>
        <c:axId val="870487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20341"/>
        <c:crosses val="autoZero"/>
        <c:auto val="1"/>
        <c:lblAlgn val="ctr"/>
        <c:lblOffset val="100"/>
        <c:noMultiLvlLbl val="0"/>
      </c:catAx>
      <c:valAx>
        <c:axId val="50220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487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704-051C-480D-A7B2-B44AB87E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CF7F-E2F4-4E95-9222-03C785EC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4AA-5018-4C9C-B75C-C12CE72D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1DD-B21C-4B8B-B547-EECC1594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295-4303-4A09-8489-BF51E5CD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9353-D97D-4E9E-99F5-DE0C37A7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F3E-41F6-4D90-BC3D-74AD7508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540-6A36-4540-9479-CDD746FA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A68-E327-4672-A50D-B3D07D60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AD68-51CF-4B08-8762-F2A5E8FB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2D29-43A6-4388-BA6B-F4E60B4E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271-34AE-458D-860E-B29BAD76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EF284-0692-4D44-9942-60DD902A48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