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54848"/>
        <c:axId val="18433040"/>
      </c:barChart>
      <c:catAx>
        <c:axId val="47154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33040"/>
        <c:crosses val="autoZero"/>
        <c:auto val="1"/>
        <c:lblAlgn val="ctr"/>
        <c:lblOffset val="100"/>
        <c:noMultiLvlLbl val="0"/>
      </c:catAx>
      <c:valAx>
        <c:axId val="18433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54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2BA-C230-44DE-904F-F83958B7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836-3C6C-4AE6-8232-D4A50E24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E70-0C55-4119-942B-28226060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FA4-6321-4FBC-8CF4-B4E8B3ED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451-54BE-42D1-89AE-187F25F9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EDE-ADFB-4CD8-860C-578C07A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5F4-A97E-4BD7-AD3A-9BB4C059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858-DFDE-4F74-BAFA-5BEB275F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049-3AA2-45AD-89D8-5BED16F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184-CD92-4BE5-9282-32E2E6D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3D7-7D20-4C5C-8779-341CED2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3DF-C0DC-44B6-BA8E-B4776747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0D288-A07F-4AFD-992C-27D02687DA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