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26456"/>
        <c:axId val="65478886"/>
      </c:barChart>
      <c:catAx>
        <c:axId val="11626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78886"/>
        <c:crosses val="autoZero"/>
        <c:auto val="1"/>
        <c:lblAlgn val="ctr"/>
        <c:lblOffset val="100"/>
        <c:noMultiLvlLbl val="0"/>
      </c:catAx>
      <c:valAx>
        <c:axId val="65478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6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31B-8986-47AA-81D5-5ED5B35F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777-573D-42DA-8A92-A06B664E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DA6-5CDD-4D45-903D-11710786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AF0-F5F8-493B-B452-80E670D4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86E-85D6-4458-AC67-AAA2B60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E48-81ED-4C84-A408-F6532D3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2DF-D0E5-4126-9C73-D228ADF3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C4E-3F16-4AEC-93D3-5808B8F7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12A-36B9-4643-B79B-95B480D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058-BA26-483C-BA51-269CBC5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65E-C8B1-4E5B-AFFC-D52C596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C5C-F8F5-4D25-8195-90F7C6D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C969B-3AB5-4CF7-9653-D1061B923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