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21033"/>
        <c:axId val="67301713"/>
      </c:barChart>
      <c:catAx>
        <c:axId val="43821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01713"/>
        <c:crosses val="autoZero"/>
        <c:auto val="1"/>
        <c:lblAlgn val="ctr"/>
        <c:lblOffset val="100"/>
        <c:noMultiLvlLbl val="0"/>
      </c:catAx>
      <c:valAx>
        <c:axId val="67301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1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8AE-40AF-40C5-8F47-58F6EBFB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496-0A47-4F59-AF6B-883DA4BC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3F0-C5D9-4AC1-8E7A-46678923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846-2F0C-418C-8DAC-43C3BF7A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FA1-7A86-4F6E-828B-5C707F1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023-BA27-4168-9C76-D8E5CC3A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11D-6BC6-4F8D-8028-D8EB8EC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6E0-E51B-4ED7-A8D9-CFDB0B10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54C-4FC1-47F0-87CB-52F8D1F1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78B-6BB6-48B9-9C89-3571990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E71-53C2-4420-92DC-E52E7F50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FBA-9AEF-44F2-947C-D346CE1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48B50-03C8-4191-834E-C1D4B64BB8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