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38340"/>
        <c:axId val="13424001"/>
      </c:barChart>
      <c:catAx>
        <c:axId val="80238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24001"/>
        <c:crosses val="autoZero"/>
        <c:auto val="1"/>
        <c:lblAlgn val="ctr"/>
        <c:lblOffset val="100"/>
        <c:noMultiLvlLbl val="0"/>
      </c:catAx>
      <c:valAx>
        <c:axId val="13424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38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D5E-044E-4979-A5A4-2933D402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9EA-FFD6-4749-AF56-600CD8C5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DD3-85EF-42FA-85AA-CC6BEFF3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36E-533E-4897-B2D7-9E47AB5F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C8E-FD54-41EF-B610-ECFCD198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C02-DEAE-47E3-958B-3A266485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E52-8CC6-49CA-AD41-DA32BAE6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D7F-2B9D-4C71-9371-35CE50E1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323-3A26-4E88-9208-2014D1E2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F48-A21A-4D38-B58E-0F2A059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E45-CDCE-48BC-9B38-88A17EA2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F34-E885-4901-BB7F-7C778A5F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D9F50-9D69-49A5-99EB-06889E5D3A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