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08605"/>
        <c:axId val="1641182"/>
      </c:barChart>
      <c:catAx>
        <c:axId val="86808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182"/>
        <c:crosses val="autoZero"/>
        <c:auto val="1"/>
        <c:lblAlgn val="ctr"/>
        <c:lblOffset val="100"/>
        <c:noMultiLvlLbl val="0"/>
      </c:catAx>
      <c:valAx>
        <c:axId val="1641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8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074-06C6-41C1-8821-85503694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E80-560C-4630-86F9-19D4D5B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AA3-418C-47D3-ACED-CCEAABAE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F6D-EC0C-4B56-BEAC-47446DAA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53E-CD1B-4D2A-8EEA-2C27782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CEA-FE00-47D9-9E22-E11229EA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A6D-2E9F-4AB5-B34D-85E2943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748-8E36-4AC3-AD7A-D7CAB518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9DA-6F66-472F-8A87-893054B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694-81F9-4FB4-AF20-6645EB3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4A1-8313-46FE-B5C4-C33CBF2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012-A8D4-46E4-860B-756DF6C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D1563-E697-41B0-8BC8-76FF76E0FD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