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126084"/>
        <c:axId val="45911738"/>
      </c:barChart>
      <c:catAx>
        <c:axId val="17126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11738"/>
        <c:crosses val="autoZero"/>
        <c:auto val="1"/>
        <c:lblAlgn val="ctr"/>
        <c:lblOffset val="100"/>
        <c:noMultiLvlLbl val="0"/>
      </c:catAx>
      <c:valAx>
        <c:axId val="45911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26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B12-0EFD-48C4-BF50-5B56C38E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124-D12A-4B67-AFF3-C1565138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BE0-F518-43F3-9953-A6D4CFDE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E83-608E-4170-B18C-585D21B4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FEF-65F8-4439-8F6A-20CB00B8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B66-DCA0-4782-AAF9-70F41506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480-DFDE-4874-8D9F-F543806C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91D-2BF5-490E-94BB-166F52CA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1EA-AF75-4132-B01A-1F812660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1AB-5ABA-479E-84F2-E5025A2F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B6A-952A-4588-91B2-9D5C6FC3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8A5-172E-4F93-A779-5D957829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57B31-6903-4C0C-82FB-C9A2CB5052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