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193407"/>
        <c:axId val="24861196"/>
      </c:barChart>
      <c:catAx>
        <c:axId val="311934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861196"/>
        <c:crosses val="autoZero"/>
        <c:auto val="1"/>
        <c:lblAlgn val="ctr"/>
        <c:lblOffset val="100"/>
        <c:noMultiLvlLbl val="0"/>
      </c:catAx>
      <c:valAx>
        <c:axId val="248611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1934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5E78-FD75-4ED1-B650-CE3B35DC7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8D0E-3B30-4081-85FB-1F0DC45FE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1D0F-7338-4D7C-9600-1B1784E9B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4157-91A8-4FF3-845C-3D192257B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B829-605F-4EA4-9CE2-E02EA6BF5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FCCA-2570-484E-9954-1A0CC9796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276F-3C40-48D9-8C76-EAB44135C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7863-0996-4316-9068-339287FEA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C0AC-B167-4362-968D-8C924E60C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F505-179E-4523-8636-5F1CA625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B57A-81DD-49B6-8268-20FBB912E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58E3-F556-48D7-A506-8D1A042AF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8DC6F8-0488-4015-BB6E-4418AD85613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