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80544"/>
        <c:axId val="89206688"/>
      </c:barChart>
      <c:catAx>
        <c:axId val="82480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6688"/>
        <c:crosses val="autoZero"/>
        <c:auto val="1"/>
        <c:lblAlgn val="ctr"/>
        <c:lblOffset val="100"/>
        <c:noMultiLvlLbl val="0"/>
      </c:catAx>
      <c:valAx>
        <c:axId val="89206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0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BD3-CD69-4522-BF7A-B9A7F3D0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2C0-8DE3-423A-BD2A-80BB3310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0CE-2C96-483C-BE61-D09CF9F0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7B2-4DB9-4758-A68B-6745A075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F0E-24D9-42F0-8408-221EFD9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BE9-4D9D-4218-84BE-94E6B89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DD5-8370-4A3E-A7C9-F6A2D48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D5B-F9C8-45F1-B6B8-857E91A6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0C2-63D5-4B92-89A2-23B2A71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E24-5541-4E8F-B325-9095CB78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861-D0C5-4927-AE25-3D11E2C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BB3-6B42-43B9-A590-E829BF66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1CF68-85E1-4E60-99C6-462AD985C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