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0475"/>
        <c:axId val="15866086"/>
      </c:barChart>
      <c:catAx>
        <c:axId val="28304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66086"/>
        <c:crosses val="autoZero"/>
        <c:auto val="1"/>
        <c:lblAlgn val="ctr"/>
        <c:lblOffset val="100"/>
        <c:noMultiLvlLbl val="0"/>
      </c:catAx>
      <c:valAx>
        <c:axId val="158660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04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3B2-5D8A-46F8-8F15-B7EF431E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6E4D-44F9-400A-BD5D-1CBBE85B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50B-E00A-4988-8D83-499D7711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EB0-EABD-4304-87E0-2E31AD08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B39A-143E-4666-90A9-B798E7F8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D35-236A-4617-B0EA-132D4612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22FC-99D7-4986-AC0E-5548C64A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FFF-F0FA-4EAD-9630-4AC06DC3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DA9-4221-4CC0-BE2B-D1C25281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C533-12BC-4C26-8AD3-956D7C77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D70-7251-45ED-9C04-1D002D37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7428-7ECE-41F4-A03B-7FCA0CF6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B46CF-9943-4320-A3A8-7811DD32B8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