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04358"/>
        <c:axId val="20170509"/>
      </c:barChart>
      <c:catAx>
        <c:axId val="15604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70509"/>
        <c:crosses val="autoZero"/>
        <c:auto val="1"/>
        <c:lblAlgn val="ctr"/>
        <c:lblOffset val="100"/>
        <c:noMultiLvlLbl val="0"/>
      </c:catAx>
      <c:valAx>
        <c:axId val="20170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04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BBF-8929-4C12-9E77-8D12A886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2FE-8EA5-498F-8ED4-B2D6E09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94E-4EF4-4636-9FE8-FCBAC70A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491-7C65-470D-8F37-B09CAC67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171-38EF-4999-9744-88E66CC0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C1B-B06B-4D2B-B6AC-82226533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94C-7082-4A76-9F0B-FB43912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615-0C5B-482C-AC97-A3CBDCC0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D2B-8C52-4CCC-94FE-76EEC668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B96-A396-4279-9116-2F92D93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30F-5F9A-4492-B38A-9E4FA80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F08-1652-45A5-8214-2E6320B7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3BAAB-A36E-4D94-8AFE-21A347362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