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47317"/>
        <c:axId val="37702230"/>
      </c:barChart>
      <c:catAx>
        <c:axId val="88047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02230"/>
        <c:crosses val="autoZero"/>
        <c:auto val="1"/>
        <c:lblAlgn val="ctr"/>
        <c:lblOffset val="100"/>
        <c:noMultiLvlLbl val="0"/>
      </c:catAx>
      <c:valAx>
        <c:axId val="37702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47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2ADA-72B2-405E-B54A-C138DC41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44A6-DE1B-4F26-B39F-3885BFB3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EBB-FDB0-45EF-AE5F-D0F7211C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6D54-D65F-4176-8C1D-D7DF11B6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2CA-F5FF-403A-95E3-C7364E99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D19-01D2-4F4B-A584-117463C5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4FA1-C842-46CF-AA2E-C1780851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D50-687D-4DCC-851B-351DF2B4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9D6-2867-405A-9AE1-9882A2D0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614A-1BDF-4759-B57A-5E43B74B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F4F-B3B6-4F74-A65B-4C38FD92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A44-00CA-4564-8482-ED64AE57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87B5E-0EC7-4A83-AF34-C46CE73E61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