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234432"/>
        <c:axId val="766031"/>
      </c:barChart>
      <c:catAx>
        <c:axId val="332344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6031"/>
        <c:crosses val="autoZero"/>
        <c:auto val="1"/>
        <c:lblAlgn val="ctr"/>
        <c:lblOffset val="100"/>
        <c:noMultiLvlLbl val="0"/>
      </c:catAx>
      <c:valAx>
        <c:axId val="7660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344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06A8-13E8-47FE-85B6-4878A8896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42F5-A156-493A-B7AF-B6DB2500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1940-7546-4A48-B633-BF15D211A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77D3-1497-4888-8183-5F519EC91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A39F-A700-46BF-8686-EAC4DA38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ED7B-92E3-4DD0-9B93-F71334D5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7BBA-3B88-4A60-AA15-E39A6749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9570-8547-455C-8CAC-3D055250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2CD2-DEF7-4926-97F3-13471FF2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B705-FA0A-48DE-AB67-430E98B8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A9B6-6A14-4D28-83B1-87C31F86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54FD-A943-446B-81B5-5F48708E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A7371-6C1D-4CB0-82C4-61CC32C4EA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