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222613"/>
        <c:axId val="82774900"/>
      </c:barChart>
      <c:catAx>
        <c:axId val="52222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74900"/>
        <c:crosses val="autoZero"/>
        <c:auto val="1"/>
        <c:lblAlgn val="ctr"/>
        <c:lblOffset val="100"/>
        <c:noMultiLvlLbl val="0"/>
      </c:catAx>
      <c:valAx>
        <c:axId val="827749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22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3A7-52E5-4E71-A85F-B7B2E670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1F0-304A-416D-B4CB-0DF868E6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B3D-BDF8-47F3-80AB-477C1B1A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7C50-0F41-4812-9ACC-07B400D4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BCB-043E-4BDB-9AA5-866066B3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E0C-1656-4419-A1A3-72EC1850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F80B-B7BC-4FDC-9CBC-81F15120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72C-ED9D-4920-891C-6C1A7F35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A388-FFC0-4820-BCD5-DEEBE960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A625-60A0-48E1-98C5-3EF6F0F0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CCA-565E-4BA4-9DC9-F932426C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41D-D411-4DC1-935F-A1578170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41EE8-900B-44DB-8C8E-EB00F77E5D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