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719999"/>
        <c:axId val="11490459"/>
      </c:barChart>
      <c:catAx>
        <c:axId val="977199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490459"/>
        <c:crosses val="autoZero"/>
        <c:auto val="1"/>
        <c:lblAlgn val="ctr"/>
        <c:lblOffset val="100"/>
        <c:noMultiLvlLbl val="0"/>
      </c:catAx>
      <c:valAx>
        <c:axId val="114904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7199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9352-1530-4282-9CE1-E830FB91F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95B2-7099-42A1-BA24-A5D346823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7266-D04B-4C03-9A4B-4A038FCE6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33F5-2094-4F5A-B5C3-9E07000A8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F27F-BC78-4FB4-BFC8-6DA87A200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1C72-AFC1-484A-BF44-DEA7A2D5D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1A1F-D717-48FA-AB7F-7D7CAD227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A210-D32D-49B2-AE94-108FC119E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AE1A-36CF-4296-B4FF-6602D5F86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5232-DA7A-42FE-A343-98FADD77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283C-D051-421E-9957-CFC55F39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179A-B146-4534-8874-561CBAA4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2025B3-6EA0-426E-B3FF-F0993DA04C7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