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508916"/>
        <c:axId val="78450828"/>
      </c:barChart>
      <c:catAx>
        <c:axId val="255089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50828"/>
        <c:crosses val="autoZero"/>
        <c:auto val="1"/>
        <c:lblAlgn val="ctr"/>
        <c:lblOffset val="100"/>
        <c:noMultiLvlLbl val="0"/>
      </c:catAx>
      <c:valAx>
        <c:axId val="784508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089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DB52-85B0-4C1F-8DAA-7AD94275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77C1-F8AC-4E46-BB49-F4988CA4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0F13-27C5-45AA-93B8-76F80E54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FFF0-641E-41BB-A17D-D2742393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0A41-89EF-47AE-8113-72BC71BF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E9BE-CEFA-4688-90AC-AC548C8C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D521-CA93-43E6-B641-288B5261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992F-B1CC-4C86-AADE-3CCBF976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0F58-C2AB-46DE-AF0C-D63B0512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70A8-4771-479B-998E-72402DE1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A16B-33BF-4BB7-B04F-458A21D6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C5F-196D-4419-86E2-2E64FBB4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05C91-FB29-4903-83EE-CBC303D353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