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38243"/>
        <c:axId val="2364418"/>
      </c:barChart>
      <c:catAx>
        <c:axId val="55538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4418"/>
        <c:crosses val="autoZero"/>
        <c:auto val="1"/>
        <c:lblAlgn val="ctr"/>
        <c:lblOffset val="100"/>
        <c:noMultiLvlLbl val="0"/>
      </c:catAx>
      <c:valAx>
        <c:axId val="2364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38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FA8-5456-45E8-BF46-98F2EAD5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B7D-1A8A-4302-B68C-E7CA9E60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9D4-A8D2-448F-935A-CD6BB5AB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0F4-6868-4630-80D5-6C0BF3E5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7AB-1666-4429-8E0D-F9E657FA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832-0671-4173-BDA0-151B67E7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A36-32BD-4A48-A57C-CFB2522C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C94-E767-4407-8266-830DCD15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973-2F06-45C4-B3EE-D2B4C479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0A5-B3BC-4262-B22C-7986FA0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82A-FFD6-4830-A850-0887FE8E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8E2-FB91-4F5A-ADF7-E5E01392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CACE8-0F5E-44AE-8A11-45D6FA6AB0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