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34194"/>
        <c:axId val="96330682"/>
      </c:barChart>
      <c:catAx>
        <c:axId val="18734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30682"/>
        <c:crosses val="autoZero"/>
        <c:auto val="1"/>
        <c:lblAlgn val="ctr"/>
        <c:lblOffset val="100"/>
        <c:noMultiLvlLbl val="0"/>
      </c:catAx>
      <c:valAx>
        <c:axId val="96330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34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3A2-D1B3-4816-8172-91A40955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5E7-722B-4559-ABC0-14603A50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5D5-C9D1-41D5-A5B5-E947672E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074-3538-47E9-A0D7-4A89AEF4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468-6722-4E7E-AE67-FDAE9A7E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29C-34C5-4C4C-9315-BF8299BF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A2B-61CB-4E54-BADB-C1204673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CB3-0086-47E6-999B-AB5A3767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25C-D130-42FE-A187-F403C7D6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12F-2564-46DE-ACBB-780D50A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40B-527B-48FB-A14F-BE364FB6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B09-31E8-40EF-8714-6E0B2DAE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39D3A-96AA-4AA1-82F1-02D394E65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