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06260"/>
        <c:axId val="36099632"/>
      </c:barChart>
      <c:catAx>
        <c:axId val="40606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99632"/>
        <c:crosses val="autoZero"/>
        <c:auto val="1"/>
        <c:lblAlgn val="ctr"/>
        <c:lblOffset val="100"/>
        <c:noMultiLvlLbl val="0"/>
      </c:catAx>
      <c:valAx>
        <c:axId val="36099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06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80D-EDAE-4F10-B8DF-B7587C3B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3B5-FE4E-4E32-9AF1-F6072246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71C-6E9D-4F05-B39D-8366E21A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2BB-A37D-483D-B922-E27C11E2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321-6FB1-49DB-B508-72FCF0E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399-D0F6-4795-BE72-5898250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DC-F20D-47FF-BCE2-FBBC0C68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021-C788-4D2D-AC78-4A012C2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1C7-F8C0-4056-90E7-AF3CE914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F51-158E-44D0-B40D-48DC3E5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352-B39E-4953-A4ED-7CE4625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F9F-4C5F-4003-86F5-1EE1E5C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2CA6A-BE7B-4897-9AB1-BDAD1776D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