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06746"/>
        <c:axId val="71574131"/>
      </c:barChart>
      <c:catAx>
        <c:axId val="4610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74131"/>
        <c:crosses val="autoZero"/>
        <c:auto val="1"/>
        <c:lblAlgn val="ctr"/>
        <c:lblOffset val="100"/>
        <c:noMultiLvlLbl val="0"/>
      </c:catAx>
      <c:valAx>
        <c:axId val="71574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0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4C8-7447-4BD6-8305-2CC43231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B80-4B17-4B09-A554-E770D7EB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EBD-225F-4C88-929A-C67A56EA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4B6-123C-4771-B42C-DFA6BC50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681-5083-4C9C-85DF-5D851A0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64D-7BB2-4062-9D6D-A2F5F1A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E8-0C72-4E1A-974B-0D4DE14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819-661E-403C-A2B5-B873616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B69-E64E-4D26-B36E-5860752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442-25AD-4B0B-921C-4206CAF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077-7484-4FC3-8634-8FD0A44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DCB-3146-4A15-A0DF-6DFEC01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DA62C-BF3D-4711-BA76-4B4AF8794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