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31333"/>
        <c:axId val="64183923"/>
      </c:barChart>
      <c:catAx>
        <c:axId val="91931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83923"/>
        <c:crosses val="autoZero"/>
        <c:auto val="1"/>
        <c:lblAlgn val="ctr"/>
        <c:lblOffset val="100"/>
        <c:noMultiLvlLbl val="0"/>
      </c:catAx>
      <c:valAx>
        <c:axId val="64183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31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567-E3E7-496C-BDC0-CB3ED794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B25-5A55-431A-85EB-7B84B92B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85E-0C2C-4023-B1A8-4E0441F0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BBC-01F6-4CDA-8C46-86E65458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43E-E10F-471E-8B84-A71665B6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6F5-F2B9-4B50-9FCD-971E2811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C6A4-2A20-4A11-9CAE-01367EE9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8E8-AC8D-4A9C-8CD2-B25308C6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32D-1E63-4AC4-8722-FF2CD76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AD2-8AE6-4751-82F1-395CA64C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0BD-4BC5-49E9-96DF-5802775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F22-BBEE-4590-8C59-7301D91B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51CCA-3930-485A-BAD8-0FF98D1097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