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234947"/>
        <c:axId val="21766954"/>
      </c:barChart>
      <c:catAx>
        <c:axId val="432349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766954"/>
        <c:crosses val="autoZero"/>
        <c:auto val="1"/>
        <c:lblAlgn val="ctr"/>
        <c:lblOffset val="100"/>
        <c:noMultiLvlLbl val="0"/>
      </c:catAx>
      <c:valAx>
        <c:axId val="217669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2349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C46E-CFFB-4A29-80CF-65875EF4A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6C5C-ABEF-432C-B77C-24B6C4D6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9F7B-C3D2-4401-8326-AEBA79D1C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387B-69B3-484B-9928-A084FB6E0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E824-F779-410C-9761-C7DBA7CB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8C35-B91C-4173-9DF0-B2546C6A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D35A-2951-444A-B082-A1397579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B9A9-3A2F-42FD-82F2-C99FF528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1D93-60C7-456E-A78F-31DA8715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1085-F9E8-4772-BE98-F7EC8E53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B2DE-4AAF-4776-905A-885EF145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2F8D-C6BC-4F68-91BE-AF6ACF2E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08268B-A240-4F5E-86CE-3D462E851A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